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75AE-E550-434F-95EC-2A4ABDDD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C6D7-5F8B-4090-82AC-AD0DC2FE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657A-B407-4369-B576-4EFBB829D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17F2-A75B-42C6-8ABE-2EE9066C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2A20-86E9-4C0A-B4F7-0577CB6D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58FC-5D27-47D1-8443-646F9A9A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D666-74DE-4919-A03D-8B06B23D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42A9-187E-4E6E-854C-31EADCA8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8B24-1D90-4950-963D-A3C682FF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6C37-F291-4FAC-AE7C-D1362095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67D7-CEC2-4D73-86FB-FC53E5D9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3C52-D8DE-441B-9F3A-A76F6E78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144B-72B1-45B9-A5FC-D33B12E370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riority areas for consideration, analysis, and evaluation (cont.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stent distribution of costs and benefi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ceability and food safe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mpling at ports of ent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datory repor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reamline multi-agency regulatory progr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blic and private sector collabo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visory boards and committe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ertification of service provid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rtnering for risk manage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arket Failure and Legislative Failur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rvice programs to facilitate efficient marke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gulatory policies/programs affect marke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cused here on market failur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t also found instances of legislative fail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exists for continuing reexamination and periodic evaluation of policies and programs affecting food and agricultural marketin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GRAM CHALLENGES AND FUTURE OPPORTUNITIES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verview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mmarize findings and policy options identifi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jor forces of change in the marketing syste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jor options identified for policy chang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orces leading to changes in marketing polici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tablishment and evolution of the various policies and program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ces possibly necessitating policy or program adjustmen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rket struc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chn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ect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rket Struc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olution of markets to coordinated and managed supply chai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rted with poultry industry vertical integ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t and central wholesale market disinteg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lobalization and international mar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de and aid issu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od safety concerns and port-of-entry inspe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-native pests and pathogens, zoonotic diseases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rket Structure (cont.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ltinational firms with progressively larger market shar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w generation cooperatives; local food outle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conomies of siz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nterculture of smaller producers collabora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echn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rt insp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safety and traceabi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otechn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imal welf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pectations of Market Performanc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st/production efficien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etition/allocative efficien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ynamic efficien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venience, health and consumer in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safe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riety vs.homogene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nmarket social valu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riority areas for consideration, analysis, and evalu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intaining market efficiency; structural bal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stablishing balance in contract marke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cal foo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toring USDA cooperative suppo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iding federal marketing order authority for farm-level fresh produce safe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stency of policies across program are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st-benefit and feasibility analysis prior to regulatory decis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stent distribution of costs and benefi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cp:lastPrinted>2012-01-30T14:40:42Z</cp:lastPrinted>
  <dcterms:modified xsi:type="dcterms:W3CDTF">2012-06-05T20:20:15Z</dcterms:modified>
  <cp:revision>57</cp:revision>
  <dc:subject/>
  <dc:title>U.S. Policies Affecting Food and Agricultural Marketing</dc:title>
</cp:coreProperties>
</file>